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7FF7-19A1-45EA-B981-7FCA536AA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2080-BF67-4993-9FC8-5D24E405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89F5-3EEC-43B2-B937-9242FE9B5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D4F0-4FFB-472F-8A86-74197622B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D978-8D05-4355-BB91-3171BF5D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CD36-72E6-4E9C-82AE-89A531F9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1A2A-C7F4-4879-B775-316CC08A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C50F-DFE4-439F-B8BA-8C54013A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0ECB-ACE0-427E-8B1C-B9B4DA0C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6D32-AEF0-4354-8690-1A72A783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D26F-E82E-4B4F-A5DB-79FB14EE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D640-9718-4174-8B42-06667C47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5C28-3242-4BED-8447-093109B4D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cc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Kristen ITC"/>
              </a:rPr>
              <a:t>By Ashley Weav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09480" y="2362320"/>
            <a:ext cx="8153640" cy="14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Kristen ITC"/>
              </a:rPr>
              <a:t>Cat and Mouse Game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Kristen ITC"/>
              <a:ea typeface="Kristen ITC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724280" y="304920"/>
            <a:ext cx="2968920" cy="2227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3880" y="4495680"/>
            <a:ext cx="27432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>
            <a:hlinkClick r:id="rId1" action="ppaction://hlinksldjump"/>
          </p:cNvPr>
          <p:cNvSpPr/>
          <p:nvPr/>
        </p:nvSpPr>
        <p:spPr>
          <a:xfrm rot="273600">
            <a:off x="380880" y="0"/>
            <a:ext cx="5029200" cy="377496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21425400">
            <a:off x="3111120" y="2514240"/>
            <a:ext cx="5791320" cy="3733920"/>
          </a:xfrm>
          <a:prstGeom prst="leftArrow">
            <a:avLst>
              <a:gd name="adj1" fmla="val 50000"/>
              <a:gd name="adj2" fmla="val 3877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 rot="375600">
            <a:off x="4343400" y="202680"/>
            <a:ext cx="4191120" cy="4800600"/>
          </a:xfrm>
          <a:prstGeom prst="downArrow">
            <a:avLst>
              <a:gd name="adj1" fmla="val 50000"/>
              <a:gd name="adj2" fmla="val 28636"/>
            </a:avLst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3" action="ppaction://hlinksldjump"/>
          </p:cNvPr>
          <p:cNvSpPr/>
          <p:nvPr/>
        </p:nvSpPr>
        <p:spPr>
          <a:xfrm rot="199200">
            <a:off x="0" y="2579400"/>
            <a:ext cx="4495680" cy="4267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3962520" y="2819520"/>
            <a:ext cx="1295280" cy="1143000"/>
          </a:xfrm>
          <a:custGeom>
            <a:avLst/>
            <a:gdLst>
              <a:gd name="textAreaLeft" fmla="*/ 304200 w 1295280"/>
              <a:gd name="textAreaRight" fmla="*/ 990000 w 1295280"/>
              <a:gd name="textAreaTop" fmla="*/ 134280 h 1143000"/>
              <a:gd name="textAreaBottom" fmla="*/ 717120 h 1143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ff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0.02083 0.58334 E">
                                      <p:cBhvr>
                                        <p:cTn id="6" dur="5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48148E-006 L 0.44166 -0.00856 E">
                                      <p:cBhvr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-0.15834 -0.61111 E">
                                      <p:cBhvr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11111E-006 L -0.60694 0.25 E">
                                      <p:cBhvr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0.55417 0.56667 E">
                                      <p:cBhvr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0.28334 -0.57222 E">
                                      <p:cBhvr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0.0184 -3.33333E-006 C 0.02708 -3.33333E-006 0.0368 -0.01828 0.04548 -0.02083 C 0.05191 -0.02083 0.06389 -0.0037 0.06927 -0.0037 C 0.07691 -0.0037 0.08437 -0.00902 0.09843 -0.00902 L 0.10833 -0.21157 L 0.11909 0.03287 L 0.13211 -3.33333E-006 L 0.14288 -0.00902 L 0.16892 -0.00139 C 0.1809 -0.00509 0.19062 -0.02222 0.20243 -0.0287 C 0.20677 -0.02986 0.21666 -0.03125 0.22309 -0.0287 C 0.22951 -0.02592 0.23507 -0.00787 0.23715 -0.00648 C 0.24045 -0.00139 0.24791 -0.00648 0.25225 -0.0037 L 0.25885 -3.33333E-006 L 0.27083 -3.33333E-006 E">
                                      <p:cBhvr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7 0.042 -0.02133 C 0.048 -0.02133 0.059 -0.004 0.064 -0.004 C 0.071 -0.004 0.078 -0.00933 0.091 -0.00933 L 0.1 -0.216 L 0.11 0.03333 L 0.122 0 L 0.132 -0.00933 L 0.156 -0.00133 C 0.167 -0.00533 0.176 -0.02267 0.187 -0.02933 C 0.191 -0.03067 0.2 -0.032 0.206 -0.02933 C 0.212 -0.02667 0.217 -0.008 0.219 -0.00667 C 0.222 -0.00133 0.229 -0.00667 0.233 -0.004 L 0.239 0 L 0.25 0 E">
                                      <p:cBhvr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0.04532 1.48148E-006 C 0.06702 1.48148E-006 0.09115 -0.01875 0.1125 -0.0213 C 0.1283 -0.0213 0.15816 -0.00394 0.1717 -0.00394 C 0.19028 -0.00394 0.20903 -0.00926 0.24393 -0.00926 L 0.26806 -0.21597 L 0.29514 0.03333 L 0.32726 1.48148E-006 L 0.35382 -0.00926 L 0.41875 -0.00139 C 0.44792 -0.00533 0.47223 -0.02269 0.50157 -0.0294 C 0.51233 -0.03056 0.53646 -0.03195 0.55278 -0.0294 C 0.56858 -0.02662 0.58212 -0.0081 0.58716 -0.00671 C 0.59566 -0.00139 0.61441 -0.00671 0.625 -0.00394 L 0.64132 1.48148E-006 L 0.67084 1.48148E-006 E">
                                      <p:cBhvr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0.03594 -1.11111E-006 C 0.05278 -1.11111E-006 0.07188 -0.01875 0.08889 -0.0213 C 0.10139 -0.0213 0.12483 -0.00393 0.13559 -0.00393 C 0.15018 -0.00393 0.16493 -0.00926 0.19254 -0.00926 L 0.21164 -0.21597 L 0.23282 0.03333 L 0.25834 -1.11111E-006 L 0.27917 -0.00926 L 0.33021 -0.00139 C 0.35348 -0.00532 0.37257 -0.02268 0.39566 -0.0294 C 0.40417 -0.03055 0.42327 -0.03194 0.43611 -0.0294 C 0.44861 -0.02662 0.4592 -0.0081 0.46337 -0.00671 C 0.46997 -0.00139 0.48455 -0.00671 0.49306 -0.00393 L 0.50591 -1.11111E-006 L 0.52917 -1.11111E-006 E">
                                      <p:cBhvr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You win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07672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Sorry, Try Again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952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00"/>
            </a:gs>
            <a:gs pos="50000">
              <a:srgbClr val="ff00ff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Thanks, Come Back Soon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181320" y="1762200"/>
            <a:ext cx="2781360" cy="3333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38280" y="58672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Buh-by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4:17:20Z</dcterms:created>
  <dc:creator>CGB</dc:creator>
  <dc:description/>
  <dc:language>en-US</dc:language>
  <cp:lastModifiedBy>CGB</cp:lastModifiedBy>
  <dcterms:modified xsi:type="dcterms:W3CDTF">2008-06-10T14:17:17Z</dcterms:modified>
  <cp:revision>9</cp:revision>
  <dc:subject/>
  <dc:title>Slide 1</dc:title>
</cp:coreProperties>
</file>